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1E4-29D6-4703-AA65-F589A642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85C-2334-43DF-8203-4310FCC8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451-9B39-4CF6-8BCA-69A34394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822-DB32-4D6B-8D9C-BAA91FFD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229E-4D8E-41EF-8D37-8D70B3E8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D4D7-16BE-479F-8816-0D318B3F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0F29-790C-4709-92E0-8DB49FC6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5879-73D5-47D5-8F2A-0FBB5AD9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7C3F-4590-4F63-865B-5AA30B9F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F4CD-9DAB-4936-87C4-FC847F7E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FCCE-7B3E-4511-9EDD-B6445EAB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D16-0AE3-4345-BC41-2EE606A6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528B-EE42-40A4-985E-6A42930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E084-FFDB-461D-AB5E-43FFB95C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7936-951F-4CDE-B748-CD6D37BD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9A07-1A3E-48E6-BF73-277D55CD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2B41-66DA-4B97-A86E-759D8577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B84-8E5D-4398-A8F3-69B7BF23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AB6-CF58-4731-9490-39037658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9C0-9E3D-4718-B0EF-50DA5D72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813-A696-4E36-BA99-42122662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3CD-D9E9-4A26-8AF6-EC8E05C3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AB9-4530-432C-A2AA-BC4E9C11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396-9C1C-49A2-80AA-4F0023C2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5C2F-08B0-45C3-BC0A-F0DECF583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A5D4-AE9E-4948-874F-A569FDB3DF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TEM &amp; ELLs</a:t>
            </a:r>
            <a:br>
              <a:rPr sz="2000"/>
            </a:b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words are pegs to hang ideas on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enry Ward Beec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ursday, October 18, 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ctivities to Activate / Build Prior Knowledg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 a pi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ousel Brainstorming – Gallery T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e your five senses – I see, I hear, I feel, etc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dering Cube – Teacher created question cu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-group-label – Brainstorm, cluster, sh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 This! Match vocab. terms to pi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5 words when you think of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cipation Guide – Agree or disagree with 5-8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eaching ELL’s Vocabulary in Contex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abulary instruction for ELL readers should be connected to the subject matter being tau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abulary should be tailored to the ELL student’s English and literacy lev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perative learning plays a critical role in vocabulary develop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trategies for Vocabulary Developmen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ent M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Word Ba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ic Flip 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pleless 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readwritethink.org/classroom-resources/student-interactives/stapleless-book-30010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evelopment of Academic Languag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fundamental to academic success in all domains (listening, speaking, reading and writing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primary source of ELL’s difficulties with academic content at all ages and gr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remain a challenge even after students achieve proficiency on current state language proficiency te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s ELL’s performance on large scale assess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mprehensible Inpu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e speech appropri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student’s proficiency le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academic tasks clea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ety of techniqu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ke content concepts cl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ckling Textbook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priateness of the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the teacher has selected the content standard for the unit, the teacher scans the text for information that addresses the stand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of Text: The teacher previews the expository of narrative text (textbook chapter, literature section, poem, etc…) to select, condense and eliminate unnecessary information and segment the text for explicit instru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ckling Textbook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he text backwa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comprehensibility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ing applications first, relevance &amp; prior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 main points using oral language &amp; hands-on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ine study questions by providing an overview &amp; key conce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text made manageable for ELL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sour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A CAN DO Descrip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llera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ffolding Assessment by Language Proficiency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ic Organ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ank You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ynn To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teach66@centurylink.n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ic Mand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UM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mandell@iu12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ink-Pair-Shar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Prior Knowledge of Words &amp; Idea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L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C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view of Researc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lish Language Learners still need the 3 R’s, yet combined with the 4C’s (Critical thinking, creativity, collaboration and communication) to thrive in today’s global community. (Partnership for 2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entury Skills 201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the 1997-1998 school year to the 2008-2009 school year, the number of English Language Learners enrolled in public schools increased by 51% (NCELA 2011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ionwide, only 5% of eighth grade English Language Learners scored at or above proficient in math on the National Assessment of Educational Progress (Slavin, Madden &amp; Calderon 2010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nglish Language Learners in the STEM Workforc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ish Language Learners comprise one in ten students in US schools and are projected to show continued growth in years ah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ish Language Learners present a unique opportunity for our educational system to develop a skilled, multilingual STEM workforce for the global economy of th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imperative that all students, including English Language Learners, have access to STEM-rich content and opportunities to learn about and explore the many STEM-related fields and care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digm shift in thinking →Cultural Deficit→ Cultural Ca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arent, Family and Community Involvemen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are the key to the success of a student’s STEM care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an understanding for significance of STEM by creating short term STEM programs with their child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involvement contributes to early exposure to 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involvement allows for cultural understanding and allows for the development of the communities future workfo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arent, Family and Community Involvemen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A Family Science 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Partners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kinson Colle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United Methodist Chur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D via Title III &amp; ESL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of a short-term program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youtube.com/watch?v=TvHn392TVTE&amp;feature=pl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tegrating Content &amp; Languag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effective educational practices for ELL’s in content classrooms is a means to ensure these students have equal access to challenging academic cont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 content and language outcomes for each les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ers are provided goal-directed opportunities to interact, reflect on and build specific content knowledge and skil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ing tasks include the four language development domains: speaking, reading, listening and wri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aking Content Comprehensible for ELL’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rehensible In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/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on Deli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/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ctivating or Building Background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nk concepts to student’s backgroun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experi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nk past learning and new concep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hasiz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ey vocabula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03:14:27Z</dcterms:created>
  <dc:creator>MEP-user01</dc:creator>
  <dc:description/>
  <dc:language>en-US</dc:language>
  <cp:lastModifiedBy>edeng</cp:lastModifiedBy>
  <dcterms:modified xsi:type="dcterms:W3CDTF">2012-10-18T09:44:13Z</dcterms:modified>
  <cp:revision>11</cp:revision>
  <dc:subject/>
  <dc:title>STEM &amp; ELL’s</dc:title>
</cp:coreProperties>
</file>